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A73-F4C3-4516-ABC1-E3A67C13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A97-4B07-4A7D-B27C-D5DB78E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9E5-EF33-4F1F-B18F-C288294B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852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508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852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820-7407-4113-9357-521636A3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7A4-E57D-41CD-99D4-3659B484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1C9B-9A8A-45D9-8643-98DF1F1F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A02C-5AF6-4AD4-A14E-790B7174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7503-AF55-4893-BAAC-81B1D85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E57A-54F1-49E0-8D26-E23D9A2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6520" y="61920"/>
            <a:ext cx="87472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D49-089C-4401-9B83-D65128EF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9AE3-07AA-43FF-91EA-B03E86B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F47-83CF-45E8-BA30-6C1694F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BFB4-8FC5-49CC-8827-F4DFD877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AEF7-ECF7-40C0-AE29-02AEBE5D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1F08-8B7D-42C0-A8B1-0EF526C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B6B8-37D7-49E0-8EA0-6F9F8592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852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160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3508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852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160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000-0ADB-426E-A7D5-F048059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FF9-5A21-44DC-8B78-D6C6FE15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931-D552-4912-B326-FEDE06A8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A7F-D78D-4A9A-BCC9-124F83D7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520" y="61920"/>
            <a:ext cx="87472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FD1-CC0C-4C2A-B5E0-BA526EBE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754-84F2-430A-B063-2AED1CD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D28-B301-45FF-AF96-F01ED53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F20-86F9-4217-883C-CD424B9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880" y="6327720"/>
            <a:ext cx="24685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36F4-D586-4FE3-97B8-764AA1A91147}" type="datetime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000" y="6327720"/>
            <a:ext cx="3057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50040" y="6327720"/>
            <a:ext cx="16336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74BF-656A-467A-B0D2-D8329A2C73D2}" type="slidenum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39127"/>
              </a:gs>
              <a:gs pos="100000">
                <a:srgbClr val="feff3f"/>
              </a:gs>
            </a:gsLst>
            <a:lin ang="8100000"/>
          </a:gradFill>
          <a:ln w="9360">
            <a:solidFill>
              <a:srgbClr val="dd4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1908000"/>
            <a:ext cx="749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64880" y="6327720"/>
            <a:ext cx="24685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EC9A-B390-4D29-B277-629B3442FD34}" type="datetime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97000" y="6327720"/>
            <a:ext cx="3057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50040" y="6327720"/>
            <a:ext cx="16336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112-18E5-4C7C-BE2F-C70D6D3E8712}" type="slidenum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f3f"/>
              </a:gs>
              <a:gs pos="100000">
                <a:srgbClr val="f39127"/>
              </a:gs>
            </a:gsLst>
            <a:lin ang="5400000"/>
          </a:gradFill>
          <a:ln w="9360">
            <a:solidFill>
              <a:srgbClr val="dd4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jacobs7@schools.nyc.gov" TargetMode="External"/><Relationship Id="rId3" Type="http://schemas.openxmlformats.org/officeDocument/2006/relationships/hyperlink" Target="mailto:mjacobs7@schools.nyc.gov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oicethread.com/share/1700052/" TargetMode="External"/><Relationship Id="rId2" Type="http://schemas.openxmlformats.org/officeDocument/2006/relationships/hyperlink" Target="http://voicethread.com/share/1700084/" TargetMode="External"/><Relationship Id="rId3" Type="http://schemas.openxmlformats.org/officeDocument/2006/relationships/hyperlink" Target="http://voicethread.com/share/1717824/" TargetMode="External"/><Relationship Id="rId4" Type="http://schemas.openxmlformats.org/officeDocument/2006/relationships/hyperlink" Target="http://voicethread.com/share/1717824/" TargetMode="External"/><Relationship Id="rId5" Type="http://schemas.openxmlformats.org/officeDocument/2006/relationships/hyperlink" Target="http://voicethread.com/share/1717824/" TargetMode="External"/><Relationship Id="rId6" Type="http://schemas.openxmlformats.org/officeDocument/2006/relationships/hyperlink" Target="http://voicethread.com/shar/1702657/" TargetMode="External"/><Relationship Id="rId7" Type="http://schemas.openxmlformats.org/officeDocument/2006/relationships/hyperlink" Target="http://voicethread.com/shar/1702657/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livebinders.com/play/play_shared_binder?id=57806" TargetMode="External"/><Relationship Id="rId3" Type="http://schemas.openxmlformats.org/officeDocument/2006/relationships/hyperlink" Target="http://livebinders.com/play/play_or_edit?id=43435" TargetMode="External"/><Relationship Id="rId4" Type="http://schemas.openxmlformats.org/officeDocument/2006/relationships/hyperlink" Target="http://livebinders.com/edit?id=32116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torybird.com/books/about-us-a-peek-inside-storybird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n.childrenslibrary.org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polleverywhere.com/multiple_choice_polls/ODg2MjU2MjQ3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la.org/ala/mgrps/divs/aasl/guidelinesandstandards/bestlist/bestwebsites.cf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s://spreadsheets.google.com/viewform?formkey=dHh0NXptVmU5QXJ0RUJfUFNnc0xLbFE6MQ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rome.glogster.com/glog-4530-9227/" TargetMode="External"/><Relationship Id="rId3" Type="http://schemas.openxmlformats.org/officeDocument/2006/relationships/hyperlink" Target="http://missbell.edu.glogster.com/georgia-okeffee-collaborative-project/" TargetMode="External"/><Relationship Id="rId4" Type="http://schemas.openxmlformats.org/officeDocument/2006/relationships/hyperlink" Target="http://newyorkersread.wikispaces.com/Glogster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prezi.com/s_uvgqkzeece/top-25-websites-for-teaching-and-learning/" TargetMode="External"/><Relationship Id="rId3" Type="http://schemas.openxmlformats.org/officeDocument/2006/relationships/hyperlink" Target="http://prezi.com/-chapaq38ync/neurofibromatosis-type-1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rofessorgarfield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9360" y="3392280"/>
            <a:ext cx="708048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2360" y="2239920"/>
            <a:ext cx="3002040" cy="4168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79520" y="279360"/>
            <a:ext cx="749772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georgia"/>
              </a:rPr>
              <a:t>AASL Best Websites for Teaching and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558960" y="2338560"/>
            <a:ext cx="51210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elissa Jacobs 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oordinator, Libr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NYC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New Yo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rk,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mjacobs7@schools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nyc.g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520" y="61920"/>
            <a:ext cx="8747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Readings with Voiceth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60" y="1017720"/>
            <a:ext cx="837576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ise Fleming books: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voicethread.com/share/1700052/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voicethread.com/share/1700084/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http://voicethread.com/share/1717824/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imals save the world (Gerald McDermott author/illustrator study)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http://voicethread.com/share/1717824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o Lionni: The Dragon and the Snak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e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http://voicethread.com/shar/170265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4200" y="369720"/>
            <a:ext cx="8616960" cy="59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8120" y="538200"/>
            <a:ext cx="8298000" cy="58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9680" y="426960"/>
            <a:ext cx="816300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16280" y="1090440"/>
            <a:ext cx="4370400" cy="508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6520" y="61920"/>
            <a:ext cx="8747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Livebin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3680" y="2266560"/>
            <a:ext cx="482940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Primary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Profession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4"/>
              </a:rPr>
              <a:t>Internet at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800" y="749160"/>
            <a:ext cx="8428320" cy="5945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6520" y="61920"/>
            <a:ext cx="8747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Tweeting is Not for the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0" y="695160"/>
            <a:ext cx="9048600" cy="546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520" y="61920"/>
            <a:ext cx="8747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Storybi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35400" y="608004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7720" y="638280"/>
            <a:ext cx="8155080" cy="4906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6440" y="5713560"/>
            <a:ext cx="851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International Children's Digital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60000">
            <a:off x="779040" y="858960"/>
            <a:ext cx="7642440" cy="564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" y="177840"/>
            <a:ext cx="809136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Poll Everyone with Poll Every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43000" y="619452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9360" y="3392280"/>
            <a:ext cx="708048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73160" y="652320"/>
            <a:ext cx="74358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georgia"/>
              </a:rPr>
              <a:t>Do you know a good Web 2.0 too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87280" y="2879640"/>
            <a:ext cx="69012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Nominate a site for next year's list at http://www.ala.org/ala/mgrps/divs/aas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guidelinesandstandard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bestlist/bestwebsitesnomination.cf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2720" y="1363680"/>
            <a:ext cx="7954920" cy="4629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6520" y="61920"/>
            <a:ext cx="87472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AASL Best Websites for Teaching and Learning Webs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40" y="6146640"/>
            <a:ext cx="62676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http://www.ala.org/ala/mgrps/divs/aasl/guidelinesandstandards/bestlist/bestwebsites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5000" y="392040"/>
            <a:ext cx="7504200" cy="4929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46320" y="5499000"/>
            <a:ext cx="70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A Web 2.0 Melange of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http://bit.ly/webmelangeof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17960" y="1068480"/>
            <a:ext cx="3902040" cy="534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520" y="61920"/>
            <a:ext cx="874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Our Selection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137960"/>
            <a:ext cx="494064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foster qualities of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are free web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encourage 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support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are user frien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provide a foundation to support 21st-century teaching and lear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240" y="158760"/>
            <a:ext cx="8746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Categories of Web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040" y="1106280"/>
            <a:ext cx="9482400" cy="90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edia Sha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Digital Storytel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anage and Organ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Social Networking and Commun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urriculum Sha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ontent Resources: Lesson Plans and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ontent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2280" y="2050920"/>
            <a:ext cx="8345520" cy="443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8440" y="219240"/>
            <a:ext cx="87472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Student Projects with Glogs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40080" y="2417760"/>
            <a:ext cx="436104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Neela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Collages of works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4"/>
              </a:rPr>
              <a:t>New Yorkers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63720" y="669960"/>
            <a:ext cx="776592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520" y="61920"/>
            <a:ext cx="8747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Prez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5057280"/>
            <a:ext cx="873432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AASL Best Website Pre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Neurofibro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5880" y="177840"/>
            <a:ext cx="8074080" cy="569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53920" y="6035760"/>
            <a:ext cx="848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21st Century Learning with Professor Garfi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47640"/>
            <a:ext cx="9048600" cy="5559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520" y="61920"/>
            <a:ext cx="87472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Collaborate with Voiceth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Web 2.0 - Exploratorium</dc:title>
</cp:coreProperties>
</file>